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B47-FC93-4C5B-9C4B-F80E545F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00E-6E32-49B4-BDCE-14F06D8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F3D-B53B-4C18-9A92-906AB96B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4AC-F35C-4F6C-8E15-A8864C5E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9EF-EEB6-49B2-B8D2-369BCF8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33E-1593-422A-B0F4-462D6BC0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785-B232-4F20-8B73-C4AC94F8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023-97C7-4558-908C-4BDF1F30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889-86C8-4F84-82D0-5AB9EE5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88F-FFF9-4287-9E6C-7332B8C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D08-F8A2-4F2A-BF11-C81E49CC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EF1-E6F3-404E-A39C-2C0BE42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A5F0-6334-4080-8744-FA1DC72C0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371600"/>
            <a:ext cx="4724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ltancy Service for an Analytical Study on the Latest Developments in Civil Service Pay Administration in Other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7772400"/>
            <a:ext cx="200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3195720"/>
            <a:ext cx="3886200" cy="3052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685800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im Report to the Task Force on the Review of Civil Service Pay Policy an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304920"/>
            <a:ext cx="2257200" cy="613800"/>
            <a:chOff x="762120" y="304920"/>
            <a:chExt cx="2257200" cy="613800"/>
          </a:xfrm>
        </p:grpSpPr>
        <p:pic>
          <p:nvPicPr>
            <p:cNvPr id="46" name="SL_pwcc_lt_.wmf11" descr=""/>
            <p:cNvPicPr/>
            <p:nvPr/>
          </p:nvPicPr>
          <p:blipFill>
            <a:blip r:embed="rId2"/>
            <a:stretch/>
          </p:blipFill>
          <p:spPr>
            <a:xfrm>
              <a:off x="762120" y="563400"/>
              <a:ext cx="22572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ML_pwcc_lt_.wmf11" descr=""/>
            <p:cNvPicPr/>
            <p:nvPr/>
          </p:nvPicPr>
          <p:blipFill>
            <a:blip r:embed="rId3"/>
            <a:stretch/>
          </p:blipFill>
          <p:spPr>
            <a:xfrm>
              <a:off x="927000" y="304920"/>
              <a:ext cx="1941120" cy="17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1:54:17Z</dcterms:created>
  <dc:creator>PricewaterhouseCoopers</dc:creator>
  <dc:description/>
  <dc:language>en-US</dc:language>
  <cp:lastModifiedBy>PricewaterhouseCoopers</cp:lastModifiedBy>
  <cp:lastPrinted>2002-03-28T04:22:20Z</cp:lastPrinted>
  <dcterms:modified xsi:type="dcterms:W3CDTF">2002-04-11T07:20:50Z</dcterms:modified>
  <cp:revision>16</cp:revision>
  <dc:subject/>
  <dc:title>No Slide Title</dc:title>
</cp:coreProperties>
</file>